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A3C-9602-4BD1-A2B5-A0A07D24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CA2-EA91-4473-9413-EBEBC419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657-E440-47DE-8660-817C0638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751-ECED-4D8E-8FCA-3032E988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E33-F694-4DC0-A0BB-49F38952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80E-4EEB-4CAE-BF6F-039AE3A7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535-9DA2-4A4D-AD49-AA4FD39B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7B2-7F16-4A11-9A13-3BAE9F77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B25-E5EF-43A1-9846-920B42AB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9AB3-8193-45E4-9C6E-16AC12C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DFA-AA20-406D-96C2-6738B9D5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6AA-1D47-46F3-8C49-4FDDF55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A5D-030D-4ABB-985A-15743D635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the Continental Congress declared independence in 1776, the revolution wasn’t won until 17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finally signed the Treaty of Paris in 17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the Americans had to decide how to run their newly independent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american_revolution"/>
          <p:cNvPicPr/>
          <p:nvPr/>
        </p:nvPicPr>
        <p:blipFill>
          <a:blip r:embed="rId1"/>
          <a:stretch/>
        </p:blipFill>
        <p:spPr>
          <a:xfrm>
            <a:off x="5105520" y="1295280"/>
            <a:ext cx="3487680" cy="533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thering Thr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76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wartime allies, along with its enemy were now becoming its ri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paid debts and a failing economy had caused many European powers to loose what little respect they had for the new 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784, Spain closed the Mississippi River to American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in also negotiated with settlers in Kentucky and Tennessee about taking control of those 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 Britain had military forts in the U.S.’s northwest territory, in violation of the peace trea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ain also tried to convince Vermont to leave the seemingly collapsing nation and become part of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T041504A"/>
          <p:cNvPicPr/>
          <p:nvPr/>
        </p:nvPicPr>
        <p:blipFill>
          <a:blip r:embed="rId1"/>
          <a:srcRect l="44685" t="0" r="0" b="0"/>
          <a:stretch/>
        </p:blipFill>
        <p:spPr>
          <a:xfrm>
            <a:off x="457200" y="1295280"/>
            <a:ext cx="321300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uck stops no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4648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if not being able to settle disputes with foreign rivals wasn’t bad enough, there was no way to settle disputes between th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were no Federal Courts to solve these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, without federal courts, the final say on interpreting the law resided with state cou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eant that the Articles and federal law could be interpreted differently depending on where you w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as confusing, and further divided the new 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nal st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457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January 1787, an insurrection of western Massachusetts farmers rose up against new taxes to pay off deb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ecame known as “Shays Rebellion” for its leader, Daniel Sh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a failure, as state militia broke them up, firing only once.  Four were killed and they all ran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a victory of sorts, as next year the state legislature cut the taxes they were protesting agai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de many people fearful that stronger central government was needed, or the nation would plunge into an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hays"/>
          <p:cNvPicPr/>
          <p:nvPr/>
        </p:nvPicPr>
        <p:blipFill>
          <a:blip r:embed="rId1"/>
          <a:stretch/>
        </p:blipFill>
        <p:spPr>
          <a:xfrm>
            <a:off x="4929120" y="1295280"/>
            <a:ext cx="362736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eakness of th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23920" y="1371600"/>
            <a:ext cx="403884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ruled,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real head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were 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ion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power to collect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national money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l states had the same vote, no matter how large or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ate governments were sup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power to enforce its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scseventy1"/>
          <p:cNvPicPr/>
          <p:nvPr/>
        </p:nvPicPr>
        <p:blipFill>
          <a:blip r:embed="rId1"/>
          <a:stretch/>
        </p:blipFill>
        <p:spPr>
          <a:xfrm>
            <a:off x="457200" y="1406520"/>
            <a:ext cx="388620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for new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6 years under the Articles, American leaders realized their government was fa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May 25, 1787 delegates from 12 states me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hiladelph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create a new plan of 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state do you think stayed away? 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091602-2"/>
          <p:cNvPicPr/>
          <p:nvPr/>
        </p:nvPicPr>
        <p:blipFill>
          <a:blip r:embed="rId1"/>
          <a:stretch/>
        </p:blipFill>
        <p:spPr>
          <a:xfrm>
            <a:off x="4495680" y="1911240"/>
            <a:ext cx="44960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stitutional Con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ld in Philadelphi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starting on May 25,1787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was chosen to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ead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the conven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njamin Franklin, at age 83, helped negotiate many compromi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flicts would develop between groups of states.  What issues do you think would divide the state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benf-0"/>
          <p:cNvPicPr/>
          <p:nvPr/>
        </p:nvPicPr>
        <p:blipFill>
          <a:blip r:embed="rId1"/>
          <a:stretch/>
        </p:blipFill>
        <p:spPr>
          <a:xfrm>
            <a:off x="4584600" y="1600200"/>
            <a:ext cx="4249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irginia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legates from Virginia introduced a pl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by the larg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reated an Executive and Nation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gress would have representation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mostly written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notebook is the only written rec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hav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vc6p1"/>
          <p:cNvPicPr/>
          <p:nvPr/>
        </p:nvPicPr>
        <p:blipFill>
          <a:blip r:embed="rId1"/>
          <a:stretch/>
        </p:blipFill>
        <p:spPr>
          <a:xfrm>
            <a:off x="5119560" y="1295280"/>
            <a:ext cx="3411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Jerse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 st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d a plan of their own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ed by Governor William Patterson of New Jers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lled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states to have equal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ongress, regardless of size or popu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paterson_w_110"/>
          <p:cNvPicPr/>
          <p:nvPr/>
        </p:nvPicPr>
        <p:blipFill>
          <a:blip r:embed="rId1"/>
          <a:stretch/>
        </p:blipFill>
        <p:spPr>
          <a:xfrm>
            <a:off x="6324480" y="5257800"/>
            <a:ext cx="1376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Great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the “Connecticut Pla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It brought together the VA and NJ pla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d a 2-house Con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nate would give equal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House of Representatives would base representation on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was agreed to on June 29, 1787, saving the convention from breaking 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comptoon"/>
          <p:cNvPicPr/>
          <p:nvPr/>
        </p:nvPicPr>
        <p:blipFill>
          <a:blip r:embed="rId1"/>
          <a:stretch/>
        </p:blipFill>
        <p:spPr>
          <a:xfrm>
            <a:off x="4648320" y="1219320"/>
            <a:ext cx="415296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sue of slavery would almost end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Great Compromise, how to count slaves as part of the population became an iss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think it was the northern or southern states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count slaves the same as free whites when determining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gordon"/>
          <p:cNvPicPr/>
          <p:nvPr/>
        </p:nvPicPr>
        <p:blipFill>
          <a:blip r:embed="rId1"/>
          <a:stretch/>
        </p:blipFill>
        <p:spPr>
          <a:xfrm>
            <a:off x="228600" y="4191120"/>
            <a:ext cx="196848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slavead"/>
          <p:cNvPicPr/>
          <p:nvPr/>
        </p:nvPicPr>
        <p:blipFill>
          <a:blip r:embed="rId2"/>
          <a:stretch/>
        </p:blipFill>
        <p:spPr>
          <a:xfrm>
            <a:off x="1398600" y="1219320"/>
            <a:ext cx="2249640" cy="2733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4" descr="timeline_lead"/>
          <p:cNvPicPr/>
          <p:nvPr/>
        </p:nvPicPr>
        <p:blipFill>
          <a:blip r:embed="rId3"/>
          <a:stretch/>
        </p:blipFill>
        <p:spPr>
          <a:xfrm>
            <a:off x="2209680" y="4343400"/>
            <a:ext cx="221004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States of Amer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ticles of Confeder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creat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 a new gover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governments were considered to be supr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deral government was very limited in it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3512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3/5 Comprom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outh wanted slaves to count as people because they had so many, this would make them more powerful in Congr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rthern states were afraid of losing power to the sou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compromise was made t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count all African slaves as 3/5 of a free perso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s was known as the </a:t>
            </a:r>
            <a:r>
              <a:rPr b="1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3/5 Compr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outh also agreed to let Congress regulate trade in exchange for a promise that Congress could not interfere with the slave trade for 20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ly, a Constitut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all the compromises, the convention set out to write down thei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uverneur Morris led the committee that actually wrote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approved it on September 17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Gouverneur Morris."/>
          <p:cNvPicPr/>
          <p:nvPr/>
        </p:nvPicPr>
        <p:blipFill>
          <a:blip r:embed="rId1"/>
          <a:stretch/>
        </p:blipFill>
        <p:spPr>
          <a:xfrm>
            <a:off x="4741920" y="1523880"/>
            <a:ext cx="3943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ling the new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decided the Constitution would take affect when 9 of the 13 states approv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d in favor of it, whil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-Federalist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ed to convince people not to appro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constitution"/>
          <p:cNvPicPr/>
          <p:nvPr/>
        </p:nvPicPr>
        <p:blipFill>
          <a:blip r:embed="rId1"/>
          <a:stretch/>
        </p:blipFill>
        <p:spPr>
          <a:xfrm>
            <a:off x="244440" y="1371600"/>
            <a:ext cx="4237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6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gued that the U.S. could not survive without a strong central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ander Hamilton, James Madison and John Jay wro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ederalist Pap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nvince Americans of the need to approve the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federalists"/>
          <p:cNvPicPr/>
          <p:nvPr/>
        </p:nvPicPr>
        <p:blipFill>
          <a:blip r:embed="rId1"/>
          <a:stretch/>
        </p:blipFill>
        <p:spPr>
          <a:xfrm>
            <a:off x="2514600" y="1219320"/>
            <a:ext cx="4419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anti-federalists"/>
          <p:cNvPicPr/>
          <p:nvPr/>
        </p:nvPicPr>
        <p:blipFill>
          <a:blip r:embed="rId1"/>
          <a:stretch/>
        </p:blipFill>
        <p:spPr>
          <a:xfrm>
            <a:off x="2103480" y="228600"/>
            <a:ext cx="55735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ti-Federa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eared the federalists would create a tyra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ere led by Patrick Henry and George M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ir opposition led to a Bill of Rights being added to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PatrickPortrait(small)"/>
          <p:cNvPicPr/>
          <p:nvPr/>
        </p:nvPicPr>
        <p:blipFill>
          <a:blip r:embed="rId1"/>
          <a:stretch/>
        </p:blipFill>
        <p:spPr>
          <a:xfrm>
            <a:off x="4800600" y="1295280"/>
            <a:ext cx="4092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ware became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 to approve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June 21, 1788, New Hampshire became the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ode Island was the last, finally ratifying in 1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rticles were adopted On November 15, 1777 in Con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still had to be ratified by all the states to become of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quickly did so, but Maryland held out until 1781, demanding that large states give up their western land clai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foreshadowed the problems one state could cause under the Artic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maryland"/>
          <p:cNvPicPr/>
          <p:nvPr/>
        </p:nvPicPr>
        <p:blipFill>
          <a:blip r:embed="rId1"/>
          <a:stretch/>
        </p:blipFill>
        <p:spPr>
          <a:xfrm>
            <a:off x="5943600" y="5257800"/>
            <a:ext cx="1793880" cy="1427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olonial_1689-1783"/>
          <p:cNvPicPr/>
          <p:nvPr/>
        </p:nvPicPr>
        <p:blipFill>
          <a:blip r:embed="rId2"/>
          <a:stretch/>
        </p:blipFill>
        <p:spPr>
          <a:xfrm>
            <a:off x="4495680" y="1447920"/>
            <a:ext cx="43038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erpetual un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3400" y="1294920"/>
            <a:ext cx="45720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established “Articles of Confederation and perpetual Union between the states of …”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, it wasn’t the union we know to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ate retains its sovereignty, freedom, and independence, and every power, jurisdiction, and right, which is not by this Confederation expressly delegated to the United States, in Congress assembled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, it was a working agreement between independent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join_die"/>
          <p:cNvPicPr/>
          <p:nvPr/>
        </p:nvPicPr>
        <p:blipFill>
          <a:blip r:embed="rId1"/>
          <a:srcRect l="1887" t="1255" r="5661" b="7498"/>
          <a:stretch/>
        </p:blipFill>
        <p:spPr>
          <a:xfrm>
            <a:off x="152280" y="2274840"/>
            <a:ext cx="4267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reated a Congress to serve as the national legisla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state could send from 2-7 representatives; however they voted as one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matter how many representatives were there, each state got only 1 vo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you think of any problems this might caus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rder to pass new law, 9 of the 13 states had to ag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would that affect how business got don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 tee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ticles allowed the Congress to pass laws and taxes, but gave it no way to enforc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, the states just ignored the federa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give itself new powers, such as passing new taxes, all 13 states had to 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new taxes do you think were pa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 of North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876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nk was one notable failure of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ert Morris, who had been named Superintendent of Finance by Congress, was given a charter by Congress to create a Bank of Nor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ould have held accounts for the nation, issued paper money and loaned the government money when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ney to create it would come from a 5% tax on imported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states agreed on this tax, but since Rhode Island did not, it was not pa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nk never was created, and the American economy suffered grea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morris"/>
          <p:cNvPicPr/>
          <p:nvPr/>
        </p:nvPicPr>
        <p:blipFill>
          <a:blip r:embed="rId1"/>
          <a:srcRect l="0" t="13619" r="15221" b="0"/>
          <a:stretch/>
        </p:blipFill>
        <p:spPr>
          <a:xfrm>
            <a:off x="5029200" y="1447920"/>
            <a:ext cx="367524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Ru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ing out of the Revolution, the United States owed $160 million in war deb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ral votes to increase taxes to pay this debt fai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ney issued by the Congress and the states became almost worthless, as inflation was out of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s rarely paid more than ½ of the taxes that were approved, and Congress could do nothing about i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PA-08-06-89-C-1p"/>
          <p:cNvPicPr/>
          <p:nvPr/>
        </p:nvPicPr>
        <p:blipFill>
          <a:blip r:embed="rId1"/>
          <a:stretch/>
        </p:blipFill>
        <p:spPr>
          <a:xfrm>
            <a:off x="304920" y="2286000"/>
            <a:ext cx="396216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in 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ew government also had no strong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gress selected someone to be its “President”.  He presided over the sessions as l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he was the weakest member of the Congress; he could not participate in debates or even vot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did not have any power to act independently, only as a part of Cong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would a lack of leadership be most importa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Thomson-Nader-InvSMjpg"/>
          <p:cNvPicPr/>
          <p:nvPr/>
        </p:nvPicPr>
        <p:blipFill>
          <a:blip r:embed="rId1"/>
          <a:srcRect l="0" t="0" r="51610" b="51708"/>
          <a:stretch/>
        </p:blipFill>
        <p:spPr>
          <a:xfrm>
            <a:off x="5181480" y="1676520"/>
            <a:ext cx="3073680" cy="396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5334120" y="5715000"/>
            <a:ext cx="28954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les Thomson served in this role for the duration of the Articles of Confed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14:19:48Z</dcterms:created>
  <dc:creator>Phil McGinnis</dc:creator>
  <dc:description/>
  <dc:language>en-US</dc:language>
  <cp:lastModifiedBy>Phillip C. McGinnis</cp:lastModifiedBy>
  <dcterms:modified xsi:type="dcterms:W3CDTF">2012-11-09T19:08:48Z</dcterms:modified>
  <cp:revision>37</cp:revision>
  <dc:subject/>
  <dc:title>To the Constitution</dc:title>
</cp:coreProperties>
</file>